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7315200" cy="96012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D8D5-F05C-4D63-A007-5D39909A5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5040" y="2239920"/>
            <a:ext cx="658512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5040" y="5550480"/>
            <a:ext cx="658512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3A1B-0F54-40DE-AFDD-C1572474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5040" y="223992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39320" y="223992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5040" y="555048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39320" y="555048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398C-71BA-4413-AC2B-EB3EE7E3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5040" y="2239920"/>
            <a:ext cx="212004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91640" y="2239920"/>
            <a:ext cx="212004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17880" y="2239920"/>
            <a:ext cx="212004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5040" y="5550480"/>
            <a:ext cx="212004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91640" y="5550480"/>
            <a:ext cx="212004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17880" y="5550480"/>
            <a:ext cx="212004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F814-483B-4F20-820B-1D830CDFE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5040" y="2239920"/>
            <a:ext cx="658512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EA4E-D861-4157-A720-5A64ED72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5040" y="2239920"/>
            <a:ext cx="65851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3341-2030-4A12-ACE3-1246F87B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5040" y="2239920"/>
            <a:ext cx="32133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39320" y="2239920"/>
            <a:ext cx="32133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ACB1-E7F7-4AFB-A979-277802B0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A31C-1289-46CD-9597-5E027F26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5040" y="383760"/>
            <a:ext cx="6585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6EF5-F24E-4F30-9A57-C1360638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5040" y="223992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39320" y="2239920"/>
            <a:ext cx="32133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5040" y="555048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87B4-31AA-4F37-9295-D80A18AD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5040" y="2239920"/>
            <a:ext cx="32133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39320" y="223992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39320" y="555048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DD39-427C-4428-8272-20C8BBDF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5040" y="223992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39320" y="223992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5040" y="5550480"/>
            <a:ext cx="658512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84F4-560A-4AD0-B7F5-3CEE4736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5040" y="2239920"/>
            <a:ext cx="65851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64680" y="8744040"/>
            <a:ext cx="17082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98760" y="8744040"/>
            <a:ext cx="231768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41600" y="8744040"/>
            <a:ext cx="17082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F2B6-0811-41EF-B825-45430C9B1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216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Calisto MT"/>
              </a:rPr>
              <a:t>Fun </a:t>
            </a:r>
            <a:br>
              <a:rPr sz="8800"/>
            </a:br>
            <a:r>
              <a:rPr b="1" lang="en-US" sz="8800" spc="-1" strike="noStrike">
                <a:solidFill>
                  <a:srgbClr val="0000ff"/>
                </a:solidFill>
                <a:latin typeface="Calisto MT"/>
              </a:rPr>
              <a:t>in the </a:t>
            </a:r>
            <a:br>
              <a:rPr sz="8800"/>
            </a:br>
            <a:r>
              <a:rPr b="1" lang="en-US" sz="8800" spc="-1" strike="noStrike">
                <a:solidFill>
                  <a:srgbClr val="0000ff"/>
                </a:solidFill>
                <a:latin typeface="Calisto MT"/>
              </a:rPr>
              <a:t>Tunnel</a:t>
            </a:r>
            <a:br>
              <a:rPr sz="12900"/>
            </a:br>
            <a:br>
              <a:rPr sz="4000"/>
            </a:br>
            <a:endParaRPr b="0" lang="en-US" sz="88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95280" y="4876920"/>
            <a:ext cx="4876920" cy="36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6416640" cy="63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One day </a:t>
            </a:r>
            <a:r>
              <a:rPr b="0" lang="en-US" sz="4400" spc="-1" strike="noStrike">
                <a:solidFill>
                  <a:srgbClr val="ff00ff"/>
                </a:solidFill>
                <a:latin typeface="Calisto MT"/>
              </a:rPr>
              <a:t>Teacher name</a:t>
            </a:r>
            <a:endParaRPr b="0" lang="en-US" sz="4400" spc="-1" strike="noStrike">
              <a:solidFill>
                <a:srgbClr val="000000"/>
              </a:solidFill>
              <a:latin typeface="Calisto MT"/>
            </a:endParaRPr>
          </a:p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sto MT"/>
            </a:endParaRPr>
          </a:p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sto MT"/>
            </a:endParaRPr>
          </a:p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sto MT"/>
            </a:endParaRPr>
          </a:p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sto MT"/>
            </a:endParaRPr>
          </a:p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sto MT"/>
            </a:endParaRPr>
          </a:p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put the tunnel out.</a:t>
            </a:r>
            <a:endParaRPr b="0" lang="en-US" sz="4400" spc="-1" strike="noStrike">
              <a:solidFill>
                <a:srgbClr val="000000"/>
              </a:solidFill>
              <a:latin typeface="Calisto MT"/>
            </a:endParaRPr>
          </a:p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sto MT"/>
            </a:endParaRPr>
          </a:p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Come and play!”</a:t>
            </a:r>
            <a:endParaRPr b="0" lang="en-US" sz="4400" spc="-1" strike="noStrike">
              <a:solidFill>
                <a:srgbClr val="000000"/>
              </a:solidFill>
              <a:latin typeface="Calisto MT"/>
            </a:endParaRPr>
          </a:p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sto MT"/>
            </a:endParaRPr>
          </a:p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Calisto MT"/>
              </a:rPr>
              <a:t>Teacher name</a:t>
            </a: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 called!</a:t>
            </a:r>
            <a:endParaRPr b="0" lang="en-US" sz="4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260496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Calisto MT"/>
              </a:rPr>
              <a:t>Insert Teacher pictur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65040" y="380880"/>
            <a:ext cx="6569280" cy="88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sto MT"/>
              </a:rPr>
              <a:t>So in crawled </a:t>
            </a:r>
            <a:r>
              <a:rPr b="0" lang="en-US" sz="4000" spc="-1" strike="noStrike">
                <a:solidFill>
                  <a:srgbClr val="ff00ff"/>
                </a:solidFill>
                <a:latin typeface="Calisto MT"/>
              </a:rPr>
              <a:t>child’s name</a:t>
            </a:r>
            <a:r>
              <a:rPr b="0" lang="en-US" sz="4000" spc="-1" strike="noStrike">
                <a:solidFill>
                  <a:srgbClr val="000000"/>
                </a:solidFill>
                <a:latin typeface="Calisto MT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sto MT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sto MT"/>
              </a:rPr>
              <a:t>Come and play!”</a:t>
            </a:r>
            <a:endParaRPr b="0" lang="en-US" sz="40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Calisto MT"/>
              </a:rPr>
              <a:t>child’s name</a:t>
            </a:r>
            <a:r>
              <a:rPr b="0" lang="en-US" sz="4000" spc="-1" strike="noStrike">
                <a:solidFill>
                  <a:srgbClr val="000000"/>
                </a:solidFill>
                <a:latin typeface="Calisto MT"/>
              </a:rPr>
              <a:t> called.</a:t>
            </a:r>
            <a:endParaRPr b="0" lang="en-US" sz="40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Calisto MT"/>
              </a:rPr>
              <a:t>Note: Insert as many duplicate copies of this page as you will need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6553440" cy="4913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86200" y="4038480"/>
            <a:ext cx="2057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Calisto MT"/>
              </a:rPr>
              <a:t>Insert Child’s Pictur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65040" y="380880"/>
            <a:ext cx="6569280" cy="81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There are so many 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friends in the tunnel!  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Oh my!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6553440" cy="4913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733920" y="3886200"/>
            <a:ext cx="19047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64680" y="457200"/>
            <a:ext cx="6264360" cy="86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So many friends 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and so little room. 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Calisto MT"/>
              </a:rPr>
              <a:t>Teacher’s name</a:t>
            </a: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 had to sneeze and they all came tumbling out!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Oh my!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3276720"/>
            <a:ext cx="6248520" cy="4684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8120" y="4648320"/>
            <a:ext cx="2286000" cy="1770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514600" y="6095880"/>
            <a:ext cx="1905120" cy="1474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343400" y="6172200"/>
            <a:ext cx="190512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3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3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3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3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3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3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90720" y="2286000"/>
            <a:ext cx="52578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pperplate Gothic Bold"/>
              </a:rPr>
              <a:t>The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pperplate Gothic Bold"/>
              <a:ea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pperplate Gothic Bold"/>
              </a:rPr>
              <a:t>End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pperplate Gothic Bold"/>
              <a:ea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0T15:17:50Z</dcterms:created>
  <dc:creator>Amy Novak</dc:creator>
  <dc:description/>
  <dc:language>en-US</dc:language>
  <cp:lastModifiedBy>Patti Porto</cp:lastModifiedBy>
  <dcterms:modified xsi:type="dcterms:W3CDTF">2008-01-24T17:13:15Z</dcterms:modified>
  <cp:revision>44</cp:revision>
  <dc:subject/>
  <dc:title> There are so many      friends in the tunnel!</dc:title>
</cp:coreProperties>
</file>